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20AC-107C-40AA-A0AF-AAC499B96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Industry and Inven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eere and the p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and the re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Technologies help nation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ning Jenny and Power L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Come to New En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Mills Hire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ll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changeable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5946-F6FF-4F65-BDE4-860947EB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534-C4C3-4B2B-BB06-D840A94C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E55-34BA-4AE7-A967-2B50A77D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376F-112A-44B9-BF52-EF4C3BE9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CC61-D8FC-4F41-BD27-57799B59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2B36-AB4F-4ABA-84F8-DFADED64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5D2C-23E3-4020-A6AD-B6436D30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8EF7-A7AD-435A-B129-D280314F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81BC-54A6-46EF-AEBF-292349A5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3999-058E-4265-9725-ADA32544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E0F9-A3CB-424F-83A9-BAFF505D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0C1-ED98-4CA9-A946-94138A22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C9EF-A2E8-4CEE-8B73-8E2B6EE5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F8C4-7A19-4C94-83EC-018FDD9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8384-A3E7-4D22-AFDF-FF35836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3249-9A8B-4FAE-BAE1-2545291F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E915-2318-408D-B7F8-66FA6B3D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04C-DC7C-43FA-A1F3-CAD1CEC0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5C76-E217-4AFF-8A7B-CAB70B0C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CA6-928B-4DD5-9E8D-5D30105B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E9E-2D7A-4DD7-BA96-27C88B0F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985-4CB2-4F62-97A7-1560C7DF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3DD7-9FFD-4088-8A6D-98EC1D1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D72-6F28-4081-8E9C-06C6B2AD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95A4-F531-4724-A76F-B544708F99E6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7E7-B1D1-41B8-B61A-EF7A31B837AE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arly Industry and Inven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notes as the lecture is giv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amb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ert Fulton designed a steam engine for a steamboat that could move against the current of a river or against the w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amboat created more opportunities for trade and transportation on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stanton012s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25210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ele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legraph was invented by Samuel Mo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chine sent sent long and short pulses of electricity along a wi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telegraph, it took only seconds to communicate with another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vention of the steamboat and telegraph brought the people of the nation closer to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r818a"/>
          <p:cNvPicPr/>
          <p:nvPr/>
        </p:nvPicPr>
        <p:blipFill>
          <a:blip r:embed="rId1"/>
          <a:stretch/>
        </p:blipFill>
        <p:spPr>
          <a:xfrm>
            <a:off x="4267080" y="1828800"/>
            <a:ext cx="4648320" cy="33130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hn Deere and the p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36, John Deere invented a lightweight plow with a steel cutting ed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re’s plow made preparing the ground for planting much less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john_deere_plow_3"/>
          <p:cNvPicPr/>
          <p:nvPr/>
        </p:nvPicPr>
        <p:blipFill>
          <a:blip r:embed="rId1"/>
          <a:stretch/>
        </p:blipFill>
        <p:spPr>
          <a:xfrm>
            <a:off x="4572000" y="2606760"/>
            <a:ext cx="4267080" cy="3205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yrus McCormick and the rea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rus McCormick invented a mechanical reaper, cut grain from the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ed farmers to plant much more seed because they could harvest it eas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reaper"/>
          <p:cNvPicPr/>
          <p:nvPr/>
        </p:nvPicPr>
        <p:blipFill>
          <a:blip r:embed="rId1"/>
          <a:stretch/>
        </p:blipFill>
        <p:spPr>
          <a:xfrm>
            <a:off x="4495680" y="1905120"/>
            <a:ext cx="3810240" cy="1981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6820_jpg"/>
          <p:cNvPicPr/>
          <p:nvPr/>
        </p:nvPicPr>
        <p:blipFill>
          <a:blip r:embed="rId2"/>
          <a:stretch/>
        </p:blipFill>
        <p:spPr>
          <a:xfrm>
            <a:off x="5316480" y="4041720"/>
            <a:ext cx="2822760" cy="20541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hreshing Mach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separated the kernels of wheat from the husks, which was a far faster way of getting wheat than picking it by h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hreshing machine increased the growing of whe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02 threshing machine"/>
          <p:cNvPicPr/>
          <p:nvPr/>
        </p:nvPicPr>
        <p:blipFill>
          <a:blip r:embed="rId1"/>
          <a:stretch/>
        </p:blipFill>
        <p:spPr>
          <a:xfrm>
            <a:off x="3809880" y="1828800"/>
            <a:ext cx="4343400" cy="225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250px-Koeh-274"/>
          <p:cNvPicPr/>
          <p:nvPr/>
        </p:nvPicPr>
        <p:blipFill>
          <a:blip r:embed="rId2"/>
          <a:stretch/>
        </p:blipFill>
        <p:spPr>
          <a:xfrm>
            <a:off x="5562720" y="4038480"/>
            <a:ext cx="23097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Technologies help nation gr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new farm equipment, Midwestern farmers grew food to feed Northeastern factory wor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western farmers became a market for Northeastern manufactured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wth of the textile factories increased the demand for Southern co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d to the expansion of slave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tton 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76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Eli Whitney also invented the cotton 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n took the seeds out of the cotton, which was much faster than doing it by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tton gin also greatly expanded the need for sla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cotton_gin"/>
          <p:cNvPicPr/>
          <p:nvPr/>
        </p:nvPicPr>
        <p:blipFill>
          <a:blip r:embed="rId1"/>
          <a:stretch/>
        </p:blipFill>
        <p:spPr>
          <a:xfrm>
            <a:off x="4686480" y="1995480"/>
            <a:ext cx="4076640" cy="3933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Industrial Revolution began in England in the late 18th centu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ustrial revolution is when hand tools are replaced by factory machines, and farming is replaced by large-scale manufactu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is the making of cloth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ning Jenny and Power Lo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ion, clothes were made at h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wards, clothes were made by machines in facto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these machines were run by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Spinning Jenny"/>
          <p:cNvPicPr/>
          <p:nvPr/>
        </p:nvPicPr>
        <p:blipFill>
          <a:blip r:embed="rId1"/>
          <a:srcRect l="0" t="0" r="0" b="12173"/>
          <a:stretch/>
        </p:blipFill>
        <p:spPr>
          <a:xfrm>
            <a:off x="4572000" y="1600200"/>
            <a:ext cx="3809880" cy="2476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75990~Power-Loom-Weaving-1834-Posters"/>
          <p:cNvPicPr/>
          <p:nvPr/>
        </p:nvPicPr>
        <p:blipFill>
          <a:blip r:embed="rId2"/>
          <a:srcRect l="0" t="0" r="2127" b="14209"/>
          <a:stretch/>
        </p:blipFill>
        <p:spPr>
          <a:xfrm>
            <a:off x="4572000" y="417672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y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ctory system had many workers under one roof working at mach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left farms and moved to the city to work in factories. They wanted the money that factories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hange was not always for th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ctories Come to New Engla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ngland was a good place to have a fact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ies needed water power, and New England had many fast-moving r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lowell-factory"/>
          <p:cNvPicPr/>
          <p:nvPr/>
        </p:nvPicPr>
        <p:blipFill>
          <a:blip r:embed="rId1"/>
          <a:stretch/>
        </p:blipFill>
        <p:spPr>
          <a:xfrm>
            <a:off x="4691160" y="2801880"/>
            <a:ext cx="4071960" cy="2319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Picture 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Mills Hire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813, Francis Cabot Lowell built a factory in eastern Massachusetts, near the Concord Ri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actory spun cotton into yarn and wove the cotton into clo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was different about this factory, they hired w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Lowell girls” lived in company-owned boardinghou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irls worked over 12 hours a day in deafening no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Lowell Gir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071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women came to Lowell in spite of the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me for the good wages: between two and four dollars a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irls usually only worked for a few years until they marr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Lowell"/>
          <p:cNvPicPr/>
          <p:nvPr/>
        </p:nvPicPr>
        <p:blipFill>
          <a:blip r:embed="rId1"/>
          <a:stretch/>
        </p:blipFill>
        <p:spPr>
          <a:xfrm>
            <a:off x="5181480" y="1828800"/>
            <a:ext cx="3090960" cy="42670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changeable P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use of interchangeable parts was created by inventor Eli Whitne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this time, guns were made one at a time. Each gun was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art broke, a new part had to be cre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ney created muskets with exactly the same parts, so any part would fit any g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nterchangeable parts speeded up production, made repairs easier, and allowed the use of lower-paid, less skilled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gunpart1"/>
          <p:cNvPicPr/>
          <p:nvPr/>
        </p:nvPicPr>
        <p:blipFill>
          <a:blip r:embed="rId1"/>
          <a:stretch/>
        </p:blipFill>
        <p:spPr>
          <a:xfrm>
            <a:off x="609480" y="5345280"/>
            <a:ext cx="7772400" cy="13604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259092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3:23:53Z</dcterms:created>
  <dc:creator>Madison Middle School</dc:creator>
  <dc:description/>
  <dc:language>en-US</dc:language>
  <cp:lastModifiedBy>Legion</cp:lastModifiedBy>
  <dcterms:modified xsi:type="dcterms:W3CDTF">2017-07-05T10:56:16Z</dcterms:modified>
  <cp:revision>25</cp:revision>
  <dc:subject/>
  <dc:title>PowerPoint Presentation  -  Early Industry and Inventions</dc:title>
</cp:coreProperties>
</file>